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31B9-A49A-4932-A47C-5AEE462D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6DF8-5C7C-4A66-ACCE-D02BD022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9FA5E-447B-4EE1-B66F-374D2543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D81F9-F6DB-41AB-925D-069DD99C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5E5544-0657-4562-B089-80E60D4F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2EFA3-3217-424D-87EC-62CDA4C5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CD04E-1311-4B11-8E62-C382E9FC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3C000-E6E3-4D20-9CF1-80CDF433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E8EFF-AB2F-4A74-991E-55B75D77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979B5-D5EE-4957-B073-0C90A342A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2AC77-0FE9-4BA4-8D96-74DDFB7D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B885-9C15-42CA-A939-DC275E09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9E90-CC71-4325-9844-93AA34405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3FF7-73FF-4FE5-B0C8-79B7BF96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90E7-D6CC-4AFE-BF1C-2B076CD1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2A67-FCC1-4BC5-881B-3418B6B3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5177-677D-4868-9A69-844B6339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A88A-37FC-4881-A341-65E49DEB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0BF4-DE69-4F37-8945-D2E7805F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CAE7-31A2-43A3-8090-1CB3A755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79CA-7BC4-48D0-B97C-F0A82DBC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C840-099C-48D3-9140-A7E721DD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D343-C2BA-462B-A7C5-151AE6F7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86D1-17EF-47CE-9421-992EC613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90A5-A5B2-4581-9018-D0427EAA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37DE-2654-464A-940E-022C09F85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A6D52-6B7C-4D47-B16E-8F13C276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8D856-6CEF-4D56-AF0C-0F0C31FF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7A5CA-242A-402C-B7E0-22E084DE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0352C-EAD9-44D0-A0DF-5A898F69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4CC36-C35C-4B78-A03F-9AF8A314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26CA-D302-4061-9214-5E543D1C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4CE7E-4476-4AE3-A28D-1890593D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1B280-F3E8-4C6B-8493-710EC767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1A625-F7EC-4A52-95D2-D5D42E65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8EF04-F7EE-4B40-8335-D46D531D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4C2D5-17A5-4A35-80D2-178FB9FA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A2A4E-D68D-4F29-8FB5-4ED80FB96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76D77-DF08-446B-94A5-36CC66DA6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39F2DB-441F-4742-851C-2AE5F06E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E1BC14-3435-420A-8434-A1D9CB7E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76F0F7-B9E0-462D-A8E8-869AF61E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D270-E31A-4369-A7C8-57CC80ED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44F969-5288-4BC9-AADA-37920FDE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81ACBA-2184-4C3B-B3CF-A3348C1A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42260D-CFBB-435F-9346-4374D2C5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653E12-4DF0-48F1-8398-2FE8F8EC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358558-1407-4999-A046-348BDFAE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5B0E69-2A28-45CB-AFDE-197D335D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9DEF61-40B1-4B41-86C9-E49060EB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E08386-33C3-4931-AAC8-087C65B55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1250C8-4E01-489A-B093-CABA453C2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B0A537-AE53-44EC-8F1F-535C49BFE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549B-231D-4C42-805B-44570EA6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324589-7670-4E14-894D-E91E0A17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C79E30-EDC9-414E-9038-57381AC9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F70158-626B-4DF0-A0C3-DEE87B7B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FBA07E-873A-4BAC-9E94-69B589E3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F7655C-8BE1-44D4-9F3F-C69751C0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B2BDC1-AB7A-4F4F-A6FE-EDD0F018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E09F8A-FA56-47B1-9163-ED009CCB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1F86B0-1B9C-4923-BCEE-01B63B0E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9F7EC8-A3A6-45D8-8785-D8165D17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DC1663-9892-46EC-A3EF-AA56E8899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6786-36E8-46E5-9BAD-6873B70E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43FD84-69C8-4F0B-A08E-2DFEC1690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562B9B-8D43-4B52-A29C-542BE4200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C6C519-89E7-4691-BD0A-DFB81418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C78D4B-48B3-4973-959D-B119A4CD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9306E6-8D5C-46FC-9972-E45A89A3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E55E7F-156D-4BBF-B4E2-8CA871FA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02AC30-A075-47FA-B569-E8CFA2F4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CFFC33-2848-4ECC-B33A-479DEBCD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CB697A-3FD3-4EAD-845B-A82FD477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4F5153-BA8F-4D2D-B41E-106317EB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8414-A1F6-4A24-BF2C-31DBDCE7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9C3DB5-D07E-4DCD-B7A7-CC79424B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E81D2E-7FE6-496A-9E4D-181C841D3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83E593-8793-4B5E-8987-3A4650A9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64ACC-234D-4F6B-AC14-AE3D8B1B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4D761-3FBD-489C-9B7C-E8411CBF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21721-3C03-4778-8F84-4F80CD8E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6747D-D35E-4148-84F7-C5666263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5A017-6D95-4DFE-B507-ECE7450D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91620-5E69-4389-A0C0-1C8121BE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DB6C0-1BC2-491D-942B-3F8241C6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F199-D9F8-4C3D-86F6-36E34FF2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426FC-4411-4258-A5C3-0A748703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72A3E-B2CE-4569-9CBD-96821162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B0B0D-225E-4FF7-8F0C-D7196885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333DA-9ABD-4494-86EA-5A22AA69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D6FEB-F751-41C8-BA23-CE0982057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1F7E75-E5E6-4862-AED9-554EF879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26213B-3603-4279-B650-80145E57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59A193-C881-43A3-A483-96005A1F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5FE19C-60ED-409F-8C59-C47D4FAB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DFCEC4-ABE9-43E5-A81C-5BEBFAC4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8BE8-FC68-46BC-A45C-ED68F87C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436F22-A581-41D0-AA67-5C825F07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3DEE35-FCC6-4EA0-BAE4-E3CC00B6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C2CA33-7287-4DCB-A97C-A0951084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A5E730-295B-4BBD-8DAA-BAAE567F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1CB8AC-65C3-4A62-8D9E-12F3708D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650141-824A-4404-AA48-6D3C9F9C0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D37A08-FECC-45D3-BBF2-532979EEC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FB604-32C1-4B7F-907A-2EAF48EAA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D025A-5117-44EE-8F05-B83891E1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26A9E-4E3E-4D70-BCFD-40650BF3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2549-B75D-4E62-8411-C74A6F7EDDF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7893-4466-42A7-8992-33AAEEC78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8BCE-5149-4B80-BBD2-882CE9B7932B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2218-8058-49A9-A530-95123EA51948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13F2-416C-411F-A650-BD068DB08C6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0D13-9851-4F5C-B345-A193A93C661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E9DD-7D0B-4471-97E9-31FAC353553C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C88C-032F-4A92-ABA3-11531B197061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2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5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6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7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16AD-4357-42F7-9C51-9F0291B5F75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heppardsoftware.com/web_games.htm" TargetMode="Externa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rdonn.org/" TargetMode="External"/><Relationship Id="rId2" Type="http://schemas.openxmlformats.org/officeDocument/2006/relationships/hyperlink" Target="http://www.timeforkids.com/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funology.com/laboratory" TargetMode="External"/><Relationship Id="rId2" Type="http://schemas.openxmlformats.org/officeDocument/2006/relationships/hyperlink" Target="http://www.funology.com/laboratory" TargetMode="External"/><Relationship Id="rId3" Type="http://schemas.openxmlformats.org/officeDocument/2006/relationships/hyperlink" Target="http://www.sciencenewsforkids.org/" TargetMode="External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athplayground.com/" TargetMode="External"/><Relationship Id="rId2" Type="http://schemas.openxmlformats.org/officeDocument/2006/relationships/hyperlink" Target="http://www.carrotsticks.com/" TargetMode="External"/><Relationship Id="rId3" Type="http://schemas.openxmlformats.org/officeDocument/2006/relationships/hyperlink" Target="http://www.coolmath-games.com/" TargetMode="External"/><Relationship Id="rId4" Type="http://schemas.openxmlformats.org/officeDocument/2006/relationships/hyperlink" Target="http://www.ixl.com/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oyolapress.com/" TargetMode="External"/><Relationship Id="rId2" Type="http://schemas.openxmlformats.org/officeDocument/2006/relationships/hyperlink" Target="http://www.cptryon.org/prayer/child/stations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kerpoof.com/" TargetMode="External"/><Relationship Id="rId2" Type="http://schemas.openxmlformats.org/officeDocument/2006/relationships/hyperlink" Target="http://www.quizlet.com/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inyurl.com/askvfs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dc3"/>
                </a:solidFill>
                <a:latin typeface="Tw Cen MT"/>
              </a:rPr>
              <a:t>TEACHING THE TECHIE TWEENS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Gabby Francis &amp; Amy Krier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93" name="Picture 2" descr="C:\Documents and Settings\afaith\Local Settings\Temporary Internet Files\Content.IE5\G0JSG9B0\MP900446602[1].jpg"/>
          <p:cNvPicPr/>
          <p:nvPr/>
        </p:nvPicPr>
        <p:blipFill>
          <a:blip r:embed="rId1"/>
          <a:stretch/>
        </p:blipFill>
        <p:spPr>
          <a:xfrm>
            <a:off x="2057400" y="1828800"/>
            <a:ext cx="487692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5565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Social Studies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www.jeopardylabs.com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sheppardsoftware.com/web_games.htm</a:t>
            </a: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dc3"/>
                </a:solidFill>
                <a:latin typeface="Tw Cen MT"/>
              </a:rPr>
              <a:t>Both websites are great to help the students practice the U.S. landforms, states, and capitals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35" name="Picture 5" descr="C:\Users\Gabby\AppData\Local\Microsoft\Windows\Temporary Internet Files\Content.IE5\S8SF7BLE\MC900174377[1].wmf"/>
          <p:cNvPicPr/>
          <p:nvPr/>
        </p:nvPicPr>
        <p:blipFill>
          <a:blip r:embed="rId2"/>
          <a:stretch/>
        </p:blipFill>
        <p:spPr>
          <a:xfrm>
            <a:off x="6172200" y="1752480"/>
            <a:ext cx="182880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Social Studies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09120" y="15235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www.mrdonn.org</a:t>
            </a: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dc3"/>
                </a:solidFill>
                <a:latin typeface="Tw Cen MT"/>
              </a:rPr>
              <a:t>This is a wonderful website to explore for power points!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www.timeforkids.com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dd804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dc3"/>
                </a:solidFill>
                <a:latin typeface="Tw Cen MT"/>
              </a:rPr>
              <a:t>Current Event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38" name="Picture 6" descr="C:\Users\Gabby\AppData\Local\Microsoft\Windows\Temporary Internet Files\Content.IE5\S8SF7BLE\MP900433193[1].jpg"/>
          <p:cNvPicPr/>
          <p:nvPr/>
        </p:nvPicPr>
        <p:blipFill>
          <a:blip r:embed="rId3"/>
          <a:stretch/>
        </p:blipFill>
        <p:spPr>
          <a:xfrm>
            <a:off x="4419720" y="3276720"/>
            <a:ext cx="4724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Scienc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www.hhmi.org/coolscience/forkids  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3240" indent="-270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dc3"/>
                </a:solidFill>
                <a:latin typeface="Tw Cen MT"/>
              </a:rPr>
              <a:t>Biology Lab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1" marL="633240" indent="-2700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www.funology.com/laboratory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3240" indent="-270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dc3"/>
                </a:solidFill>
                <a:latin typeface="Tw Cen MT"/>
              </a:rPr>
              <a:t>Online Science Lab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1" marL="633240" indent="-2700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1" marL="633240" indent="-270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3"/>
              </a:rPr>
              <a:t>www.sciencenewsforkids.org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5875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dc3"/>
                </a:solidFill>
                <a:latin typeface="Tw Cen MT"/>
              </a:rPr>
              <a:t>Science News/Current Events (Great for Enrichment)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2" marL="5875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3240" indent="-2700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41" name="Picture 3" descr="C:\Program Files\Microsoft Office\MEDIA\CAGCAT10\j0305257.wmf"/>
          <p:cNvPicPr/>
          <p:nvPr/>
        </p:nvPicPr>
        <p:blipFill>
          <a:blip r:embed="rId4"/>
          <a:stretch/>
        </p:blipFill>
        <p:spPr>
          <a:xfrm>
            <a:off x="7162920" y="1828800"/>
            <a:ext cx="167616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4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4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Extra Fun!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www.tinyurl.com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www.brainpop.com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www.internet4classrooms.com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www.teacherspayteachers.com 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www.watchknowlearn.org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44" name="Picture 4" descr="C:\Documents and Settings\afaith\Local Settings\Temporary Internet Files\Content.IE5\QSOAOXGX\MC900282176[1].wmf"/>
          <p:cNvPicPr/>
          <p:nvPr/>
        </p:nvPicPr>
        <p:blipFill>
          <a:blip r:embed="rId1"/>
          <a:stretch/>
        </p:blipFill>
        <p:spPr>
          <a:xfrm>
            <a:off x="6629400" y="4724280"/>
            <a:ext cx="103032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217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Questions?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Tw Cen MT"/>
              </a:rPr>
              <a:t>Amy Krier: </a:t>
            </a: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akrier@stjoeschool.com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Tw Cen MT"/>
              </a:rPr>
              <a:t>Gabby Francis: </a:t>
            </a: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gfrancis@stjoeschool.com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47" name="Picture 4" descr="C:\Documents and Settings\afaith\Local Settings\Temporary Internet Files\Content.IE5\A3HW23PN\MP900390083[1].jpg"/>
          <p:cNvPicPr/>
          <p:nvPr/>
        </p:nvPicPr>
        <p:blipFill>
          <a:blip r:embed="rId1"/>
          <a:stretch/>
        </p:blipFill>
        <p:spPr>
          <a:xfrm>
            <a:off x="3505320" y="3809880"/>
            <a:ext cx="190476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Math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www.mathplayground.com</a:t>
            </a: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dc3"/>
                </a:solidFill>
                <a:latin typeface="Tw Cen MT"/>
              </a:rPr>
              <a:t>Great videos and game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www.carrotsticks.com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dc3"/>
                </a:solidFill>
                <a:latin typeface="Tw Cen MT"/>
              </a:rPr>
              <a:t>Great to review math fact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dc3"/>
                </a:solidFill>
                <a:latin typeface="Tw Cen MT"/>
              </a:rPr>
              <a:t>Students compete against one another to solve problem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3"/>
              </a:rPr>
              <a:t>www.coolmath-games.com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4"/>
              </a:rPr>
              <a:t>www.ixl.com</a:t>
            </a: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dc3"/>
                </a:solidFill>
                <a:latin typeface="Tw Cen MT"/>
              </a:rPr>
              <a:t>Extra practice activitie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96" name="Picture 4" descr="C:\Users\Gabby\AppData\Local\Microsoft\Windows\Temporary Internet Files\Content.IE5\JEN381JC\MC900130271[1].wmf"/>
          <p:cNvPicPr/>
          <p:nvPr/>
        </p:nvPicPr>
        <p:blipFill>
          <a:blip r:embed="rId5"/>
          <a:stretch/>
        </p:blipFill>
        <p:spPr>
          <a:xfrm>
            <a:off x="6553080" y="1828800"/>
            <a:ext cx="1828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Religion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5335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woodlands-junior.kent.sch.uk/customs/Xmas/calendar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dc3"/>
                </a:solidFill>
                <a:latin typeface="Tw Cen MT"/>
              </a:rPr>
              <a:t>Interactive Advent Calendar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www.loyolapress.com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dc3"/>
                </a:solidFill>
                <a:latin typeface="Tw Cen MT"/>
              </a:rPr>
              <a:t>3 Minute Retreat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dc3"/>
                </a:solidFill>
                <a:latin typeface="Tw Cen MT"/>
              </a:rPr>
              <a:t>Great ideas for seasonal activities 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www.cptryon.org/prayer/child/stations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dc3"/>
                </a:solidFill>
                <a:latin typeface="Tw Cen MT"/>
              </a:rPr>
              <a:t>Stations of the Cross for student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99" name="il_fi" descr="http://t2.gstatic.com/images?q=tbn:ANd9GcTAtkLuSKU-cR6zXgVCojNV8YykozEg36ox7EsXWhJmW32Vh8xa9943p1c"/>
          <p:cNvPicPr/>
          <p:nvPr/>
        </p:nvPicPr>
        <p:blipFill>
          <a:blip r:embed="rId3"/>
          <a:stretch/>
        </p:blipFill>
        <p:spPr>
          <a:xfrm>
            <a:off x="6858000" y="2819520"/>
            <a:ext cx="1447920" cy="1828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Language Arts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www.kerpoof.com</a:t>
            </a: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dc3"/>
                </a:solidFill>
                <a:latin typeface="Tw Cen MT"/>
              </a:rPr>
              <a:t>Great for creative writing exercises 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www.quizlet.com</a:t>
            </a: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 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www.spellingcity.com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dc3"/>
                </a:solidFill>
                <a:latin typeface="Tw Cen MT"/>
              </a:rPr>
              <a:t>Wonderful sites for studying vocabulary 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dc3"/>
                </a:solidFill>
                <a:latin typeface="Tw Cen MT"/>
              </a:rPr>
              <a:t>	</a:t>
            </a:r>
            <a:r>
              <a:rPr b="0" lang="en-US" sz="2600" spc="-1" strike="noStrike">
                <a:solidFill>
                  <a:srgbClr val="ebddc3"/>
                </a:solidFill>
                <a:latin typeface="Tw Cen MT"/>
              </a:rPr>
              <a:t>in any subject area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02" name="Picture 6" descr="C:\Users\Gabby\AppData\Local\Microsoft\Windows\Temporary Internet Files\Content.IE5\48V8CTUL\MC900357981[1].wmf"/>
          <p:cNvPicPr/>
          <p:nvPr/>
        </p:nvPicPr>
        <p:blipFill>
          <a:blip r:embed="rId3"/>
          <a:stretch/>
        </p:blipFill>
        <p:spPr>
          <a:xfrm>
            <a:off x="6477120" y="2209680"/>
            <a:ext cx="1795320" cy="1905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Language Arts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tinyurl.com/askvfs</a:t>
            </a: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ebddc3"/>
                </a:solidFill>
                <a:latin typeface="Tw Cen MT"/>
              </a:rPr>
              <a:t>(Reading Lady)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dc3"/>
                </a:solidFill>
                <a:latin typeface="Tw Cen MT"/>
              </a:rPr>
              <a:t>This is a wonderful resource for Readers’ Theater scripts! It also has great ideas for poetry units and creative writing. 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05" name="Picture 7" descr="C:\Users\Gabby\AppData\Local\Microsoft\Windows\Temporary Internet Files\Content.IE5\48V8CTUL\MC900089784[1].wmf"/>
          <p:cNvPicPr/>
          <p:nvPr/>
        </p:nvPicPr>
        <p:blipFill>
          <a:blip r:embed="rId2"/>
          <a:stretch/>
        </p:blipFill>
        <p:spPr>
          <a:xfrm>
            <a:off x="2590920" y="3657600"/>
            <a:ext cx="3819240" cy="2819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Oval 3"/>
          <p:cNvSpPr/>
          <p:nvPr/>
        </p:nvSpPr>
        <p:spPr>
          <a:xfrm>
            <a:off x="2971800" y="2286000"/>
            <a:ext cx="2895480" cy="1523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ocabulary 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Straight Connector 5"/>
          <p:cNvSpPr/>
          <p:nvPr/>
        </p:nvSpPr>
        <p:spPr>
          <a:xfrm flipV="1">
            <a:off x="5443560" y="1218960"/>
            <a:ext cx="271440" cy="1290600"/>
          </a:xfrm>
          <a:prstGeom prst="line">
            <a:avLst/>
          </a:prstGeom>
          <a:ln w="15840">
            <a:solidFill>
              <a:srgbClr val="5051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Flowchart: Punched Tape 6"/>
          <p:cNvSpPr/>
          <p:nvPr/>
        </p:nvSpPr>
        <p:spPr>
          <a:xfrm>
            <a:off x="5715000" y="0"/>
            <a:ext cx="3429000" cy="2438280"/>
          </a:xfrm>
          <a:prstGeom prst="flowChartPunchedTape">
            <a:avLst/>
          </a:prstGeom>
          <a:solidFill>
            <a:srgbClr val="ff0000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finition of vocabulary w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traight Connector 9"/>
          <p:cNvSpPr/>
          <p:nvPr/>
        </p:nvSpPr>
        <p:spPr>
          <a:xfrm>
            <a:off x="5443560" y="3586320"/>
            <a:ext cx="2214720" cy="757080"/>
          </a:xfrm>
          <a:prstGeom prst="line">
            <a:avLst/>
          </a:prstGeom>
          <a:ln w="9360">
            <a:solidFill>
              <a:srgbClr val="5051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ounded Rectangle 10"/>
          <p:cNvSpPr/>
          <p:nvPr/>
        </p:nvSpPr>
        <p:spPr>
          <a:xfrm>
            <a:off x="6172200" y="4343400"/>
            <a:ext cx="2971800" cy="251460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hat does the word look like? Use clip art to find an image and insert he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Straight Connector 16"/>
          <p:cNvSpPr/>
          <p:nvPr/>
        </p:nvSpPr>
        <p:spPr>
          <a:xfrm flipH="1" flipV="1">
            <a:off x="3352680" y="1486080"/>
            <a:ext cx="1067040" cy="799920"/>
          </a:xfrm>
          <a:prstGeom prst="line">
            <a:avLst/>
          </a:prstGeom>
          <a:ln w="9360">
            <a:solidFill>
              <a:srgbClr val="5051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Oval Callout 17"/>
          <p:cNvSpPr/>
          <p:nvPr/>
        </p:nvSpPr>
        <p:spPr>
          <a:xfrm>
            <a:off x="0" y="228600"/>
            <a:ext cx="3352680" cy="25146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ff00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the vocabulary word in an original sent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Straight Connector 22"/>
          <p:cNvSpPr/>
          <p:nvPr/>
        </p:nvSpPr>
        <p:spPr>
          <a:xfrm flipH="1">
            <a:off x="1447560" y="3048120"/>
            <a:ext cx="1523880" cy="1066680"/>
          </a:xfrm>
          <a:prstGeom prst="line">
            <a:avLst/>
          </a:prstGeom>
          <a:ln w="9360">
            <a:solidFill>
              <a:srgbClr val="5051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Explosion 2 23"/>
          <p:cNvSpPr/>
          <p:nvPr/>
        </p:nvSpPr>
        <p:spPr>
          <a:xfrm>
            <a:off x="-152280" y="3586320"/>
            <a:ext cx="3504960" cy="2743200"/>
          </a:xfrm>
          <a:prstGeom prst="irregularSeal2">
            <a:avLst/>
          </a:prstGeom>
          <a:solidFill>
            <a:srgbClr val="ed6fae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ynony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Straight Connector 25"/>
          <p:cNvSpPr/>
          <p:nvPr/>
        </p:nvSpPr>
        <p:spPr>
          <a:xfrm>
            <a:off x="4419720" y="3809880"/>
            <a:ext cx="0" cy="1067040"/>
          </a:xfrm>
          <a:prstGeom prst="line">
            <a:avLst/>
          </a:prstGeom>
          <a:ln w="9360">
            <a:solidFill>
              <a:srgbClr val="5051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Vertical Scroll 27"/>
          <p:cNvSpPr/>
          <p:nvPr/>
        </p:nvSpPr>
        <p:spPr>
          <a:xfrm>
            <a:off x="3378240" y="4686480"/>
            <a:ext cx="2438280" cy="1828800"/>
          </a:xfrm>
          <a:prstGeom prst="verticalScroll">
            <a:avLst>
              <a:gd name="adj" fmla="val 12500"/>
            </a:avLst>
          </a:prstGeom>
          <a:solidFill>
            <a:srgbClr val="08d6cc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tonym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Oval 1"/>
          <p:cNvSpPr/>
          <p:nvPr/>
        </p:nvSpPr>
        <p:spPr>
          <a:xfrm>
            <a:off x="2971800" y="2286000"/>
            <a:ext cx="2895480" cy="15238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d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Straight Connector 2"/>
          <p:cNvSpPr/>
          <p:nvPr/>
        </p:nvSpPr>
        <p:spPr>
          <a:xfrm flipV="1">
            <a:off x="5443560" y="1218960"/>
            <a:ext cx="135000" cy="1290600"/>
          </a:xfrm>
          <a:prstGeom prst="line">
            <a:avLst/>
          </a:prstGeom>
          <a:ln w="1584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Flowchart: Punched Tape 3"/>
          <p:cNvSpPr/>
          <p:nvPr/>
        </p:nvSpPr>
        <p:spPr>
          <a:xfrm>
            <a:off x="5578560" y="0"/>
            <a:ext cx="3429000" cy="2438280"/>
          </a:xfrm>
          <a:prstGeom prst="flowChartPunchedTape">
            <a:avLst/>
          </a:prstGeom>
          <a:solidFill>
            <a:srgbClr val="ff0000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Be afraid or scared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Straight Connector 4"/>
          <p:cNvSpPr/>
          <p:nvPr/>
        </p:nvSpPr>
        <p:spPr>
          <a:xfrm>
            <a:off x="5443560" y="3586320"/>
            <a:ext cx="1852560" cy="79200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Straight Connector 5"/>
          <p:cNvSpPr/>
          <p:nvPr/>
        </p:nvSpPr>
        <p:spPr>
          <a:xfrm flipH="1" flipV="1">
            <a:off x="3352680" y="1486080"/>
            <a:ext cx="1067040" cy="79992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Oval Callout 6"/>
          <p:cNvSpPr/>
          <p:nvPr/>
        </p:nvSpPr>
        <p:spPr>
          <a:xfrm>
            <a:off x="0" y="228600"/>
            <a:ext cx="3352680" cy="25146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ff00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When I saw the monster I was filled with dre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Straight Connector 7"/>
          <p:cNvSpPr/>
          <p:nvPr/>
        </p:nvSpPr>
        <p:spPr>
          <a:xfrm flipH="1">
            <a:off x="1447560" y="3048120"/>
            <a:ext cx="1523880" cy="106668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Explosion 2 8"/>
          <p:cNvSpPr/>
          <p:nvPr/>
        </p:nvSpPr>
        <p:spPr>
          <a:xfrm>
            <a:off x="-152280" y="3581280"/>
            <a:ext cx="3504960" cy="2743200"/>
          </a:xfrm>
          <a:prstGeom prst="irregularSeal2">
            <a:avLst/>
          </a:prstGeom>
          <a:solidFill>
            <a:srgbClr val="ed6fae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cared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Straight Connector 9"/>
          <p:cNvSpPr/>
          <p:nvPr/>
        </p:nvSpPr>
        <p:spPr>
          <a:xfrm>
            <a:off x="4419720" y="3809880"/>
            <a:ext cx="0" cy="106704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Vertical Scroll 10"/>
          <p:cNvSpPr/>
          <p:nvPr/>
        </p:nvSpPr>
        <p:spPr>
          <a:xfrm>
            <a:off x="3352680" y="4610160"/>
            <a:ext cx="2438640" cy="1828800"/>
          </a:xfrm>
          <a:prstGeom prst="verticalScroll">
            <a:avLst>
              <a:gd name="adj" fmla="val 12500"/>
            </a:avLst>
          </a:prstGeom>
          <a:solidFill>
            <a:srgbClr val="08d6cc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fearless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ounded Rectangle 11"/>
          <p:cNvSpPr/>
          <p:nvPr/>
        </p:nvSpPr>
        <p:spPr>
          <a:xfrm>
            <a:off x="6299280" y="4114800"/>
            <a:ext cx="2773440" cy="220968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3" descr="C:\Users\pgaletti\AppData\Local\Microsoft\Windows\Temporary Internet Files\Content.IE5\4IOA65W7\MC900139509[1].wmf"/>
          <p:cNvPicPr/>
          <p:nvPr/>
        </p:nvPicPr>
        <p:blipFill>
          <a:blip r:embed="rId1"/>
          <a:stretch/>
        </p:blipFill>
        <p:spPr>
          <a:xfrm>
            <a:off x="6477120" y="4281480"/>
            <a:ext cx="24177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1112760" y="0"/>
            <a:ext cx="691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Discussion Tim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04560" y="1676160"/>
            <a:ext cx="846756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Tw Cen MT"/>
              </a:rPr>
              <a:t>Pick two activities and discuss in your groups how they could be useful in your own classroom.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32" name="Picture 4" descr="C:\Documents and Settings\afaith\Local Settings\Temporary Internet Files\Content.IE5\PXODUQIE\MC900441902[1].wmf"/>
          <p:cNvPicPr/>
          <p:nvPr/>
        </p:nvPicPr>
        <p:blipFill>
          <a:blip r:embed="rId1"/>
          <a:stretch/>
        </p:blipFill>
        <p:spPr>
          <a:xfrm>
            <a:off x="3854520" y="3656160"/>
            <a:ext cx="1781280" cy="21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02:40:29Z</dcterms:created>
  <dc:creator>Lenovo User</dc:creator>
  <dc:description/>
  <dc:language>en-US</dc:language>
  <cp:lastModifiedBy>Gabrielle Francis</cp:lastModifiedBy>
  <dcterms:modified xsi:type="dcterms:W3CDTF">2012-02-16T22:26:00Z</dcterms:modified>
  <cp:revision>61</cp:revision>
  <dc:subject/>
  <dc:title>Teaching the Techie Tweens</dc:title>
</cp:coreProperties>
</file>